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642DD-7BC7-42D1-BD53-E27A07EC9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9F589-61BC-4D03-B0C9-F4C590A0C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837FA-48F8-443A-95C4-09287B627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90D3E-0E2D-4E10-A669-66C8E3FC1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68248-6CAC-4320-8398-F651AB663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D962D-2051-4E98-9338-21D851A0F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4720F-0926-4130-9375-9C09A1D8F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DF1DD-E693-4BEF-A39E-9CD33634F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D0B32-8498-40EC-BD95-B3BF5B178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6350F-7D45-4C79-8158-AFDBB168B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4E96A-5DA7-44D8-9039-2C7446AE3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22791-E11F-4992-9DD1-12A483F1C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2441-76D0-4843-98BC-CEFC862F96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920" y="609120"/>
            <a:ext cx="5410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badi MT Condensed Extra Bold"/>
              </a:rPr>
              <a:t>Quote sandwiches</a:t>
            </a:r>
            <a:endParaRPr b="0" lang="en-US" sz="4400" spc="-1" strike="noStrike">
              <a:solidFill>
                <a:srgbClr val="000000"/>
              </a:solidFill>
              <a:latin typeface="Arial"/>
            </a:endParaRPr>
          </a:p>
        </p:txBody>
      </p:sp>
      <p:sp>
        <p:nvSpPr>
          <p:cNvPr id="42" name="PlaceHolder 2"/>
          <p:cNvSpPr>
            <a:spLocks noGrp="1"/>
          </p:cNvSpPr>
          <p:nvPr>
            <p:ph/>
          </p:nvPr>
        </p:nvSpPr>
        <p:spPr>
          <a:xfrm>
            <a:off x="1066320" y="2743200"/>
            <a:ext cx="7086600" cy="41148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tence setting up first supporting ide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 example or quote</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up from quote (what does the quote show?)</a:t>
            </a: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4114800" cy="2716200"/>
          </a:xfrm>
          <a:prstGeom prst="rect">
            <a:avLst/>
          </a:prstGeom>
          <a:ln w="0">
            <a:noFill/>
          </a:ln>
        </p:spPr>
      </p:pic>
      <p:sp>
        <p:nvSpPr>
          <p:cNvPr id="44" name=""/>
          <p:cNvSpPr/>
          <p:nvPr/>
        </p:nvSpPr>
        <p:spPr>
          <a:xfrm>
            <a:off x="6477120" y="5715000"/>
            <a:ext cx="2057400" cy="685800"/>
          </a:xfrm>
          <a:prstGeom prst="wedgeEllipseCallout">
            <a:avLst>
              <a:gd name="adj1" fmla="val -168365"/>
              <a:gd name="adj2" fmla="val -9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badi MT Condensed Extra Bold"/>
              </a:rPr>
              <a:t>Bottom bread</a:t>
            </a:r>
            <a:endParaRPr b="0" lang="en-US" sz="2400" spc="-1" strike="noStrike">
              <a:solidFill>
                <a:srgbClr val="000000"/>
              </a:solidFill>
              <a:latin typeface="Arial"/>
            </a:endParaRPr>
          </a:p>
        </p:txBody>
      </p:sp>
      <p:sp>
        <p:nvSpPr>
          <p:cNvPr id="45" name=""/>
          <p:cNvSpPr/>
          <p:nvPr/>
        </p:nvSpPr>
        <p:spPr>
          <a:xfrm>
            <a:off x="6629400" y="1981080"/>
            <a:ext cx="1676520" cy="76212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badi MT Condensed Extra Bold"/>
              </a:rPr>
              <a:t>Top bread</a:t>
            </a:r>
            <a:endParaRPr b="0" lang="en-US" sz="2400" spc="-1" strike="noStrike">
              <a:solidFill>
                <a:srgbClr val="000000"/>
              </a:solidFill>
              <a:latin typeface="Arial"/>
            </a:endParaRPr>
          </a:p>
        </p:txBody>
      </p:sp>
      <p:sp>
        <p:nvSpPr>
          <p:cNvPr id="46" name=""/>
          <p:cNvSpPr/>
          <p:nvPr/>
        </p:nvSpPr>
        <p:spPr>
          <a:xfrm>
            <a:off x="7238880" y="3429000"/>
            <a:ext cx="1676520" cy="762120"/>
          </a:xfrm>
          <a:prstGeom prst="wedgeEllipseCallout">
            <a:avLst>
              <a:gd name="adj1" fmla="val -180870"/>
              <a:gd name="adj2" fmla="val 33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badi MT Condensed Extra Bold"/>
              </a:rPr>
              <a:t>Fill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04920"/>
            <a:ext cx="8229600" cy="640080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badi MT Condensed Extra Bold"/>
              </a:rPr>
              <a:t>Sequence of sentences in a body paragraph.</a:t>
            </a:r>
            <a:endParaRPr b="0" lang="en-US" sz="2800" spc="-1" strike="noStrike">
              <a:solidFill>
                <a:srgbClr val="000000"/>
              </a:solidFill>
              <a:latin typeface="Arial"/>
            </a:endParaRPr>
          </a:p>
          <a:p>
            <a:pPr marL="533520" indent="-53352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ic sentence (focus of the paragraph overall)</a:t>
            </a:r>
            <a:endParaRPr b="0" lang="en-US" sz="2400" spc="-1" strike="noStrike">
              <a:solidFill>
                <a:srgbClr val="000000"/>
              </a:solidFill>
              <a:latin typeface="Arial"/>
            </a:endParaRPr>
          </a:p>
          <a:p>
            <a:pPr marL="533520" indent="-53352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ence setting up first supporting idea</a:t>
            </a:r>
            <a:endParaRPr b="0" lang="en-US" sz="2400" spc="-1" strike="noStrike">
              <a:solidFill>
                <a:srgbClr val="000000"/>
              </a:solidFill>
              <a:latin typeface="Arial"/>
            </a:endParaRPr>
          </a:p>
          <a:p>
            <a:pPr marL="533520" indent="-53352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 example or quote</a:t>
            </a:r>
            <a:endParaRPr b="0" lang="en-US" sz="2400" spc="-1" strike="noStrike">
              <a:solidFill>
                <a:srgbClr val="000000"/>
              </a:solidFill>
              <a:latin typeface="Arial"/>
            </a:endParaRPr>
          </a:p>
          <a:p>
            <a:pPr marL="533520" indent="-53352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up from quote (what does the quote show?)</a:t>
            </a:r>
            <a:endParaRPr b="0" lang="en-US" sz="2400" spc="-1" strike="noStrike">
              <a:solidFill>
                <a:srgbClr val="000000"/>
              </a:solidFill>
              <a:latin typeface="Arial"/>
            </a:endParaRPr>
          </a:p>
          <a:p>
            <a:pPr marL="533520" indent="-53352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ence transitioning to second supporting idea and setting up that idea. </a:t>
            </a:r>
            <a:endParaRPr b="0" lang="en-US" sz="2400" spc="-1" strike="noStrike">
              <a:solidFill>
                <a:srgbClr val="000000"/>
              </a:solidFill>
              <a:latin typeface="Arial"/>
            </a:endParaRPr>
          </a:p>
          <a:p>
            <a:pPr marL="533520" indent="-53352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 example or quote</a:t>
            </a:r>
            <a:endParaRPr b="0" lang="en-US" sz="2400" spc="-1" strike="noStrike">
              <a:solidFill>
                <a:srgbClr val="000000"/>
              </a:solidFill>
              <a:latin typeface="Arial"/>
            </a:endParaRPr>
          </a:p>
          <a:p>
            <a:pPr marL="533520" indent="-53352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up from quote (what does the quote show?)</a:t>
            </a:r>
            <a:endParaRPr b="0" lang="en-US" sz="2400" spc="-1" strike="noStrike">
              <a:solidFill>
                <a:srgbClr val="000000"/>
              </a:solidFill>
              <a:latin typeface="Arial"/>
            </a:endParaRPr>
          </a:p>
          <a:p>
            <a:pPr marL="533520" indent="-53352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ence that comments on the importance of this subpoint to the story overall</a:t>
            </a:r>
            <a:r>
              <a:rPr b="0" lang="en-US" sz="2800" spc="-1" strike="noStrike">
                <a:solidFill>
                  <a:srgbClr val="000000"/>
                </a:solidFill>
                <a:latin typeface="Times New Roman"/>
              </a:rPr>
              <a:t> </a:t>
            </a:r>
            <a:endParaRPr b="0" lang="en-US" sz="2800" spc="-1" strike="noStrike">
              <a:solidFill>
                <a:srgbClr val="000000"/>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badi MT Condensed Extra Bold"/>
              </a:rPr>
              <a:t>Suggested length = 8+ Sentences total</a:t>
            </a:r>
            <a:endParaRPr b="0" lang="en-US" sz="2800" spc="-1" strike="noStrike">
              <a:solidFill>
                <a:srgbClr val="000000"/>
              </a:solidFill>
              <a:latin typeface="Arial"/>
            </a:endParaRPr>
          </a:p>
          <a:p>
            <a:pPr marL="533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
          <p:cNvSpPr/>
          <p:nvPr/>
        </p:nvSpPr>
        <p:spPr>
          <a:xfrm>
            <a:off x="6248520" y="1295280"/>
            <a:ext cx="1828800" cy="762120"/>
          </a:xfrm>
          <a:prstGeom prst="wedgeEllipseCallout">
            <a:avLst>
              <a:gd name="adj1" fmla="val -132986"/>
              <a:gd name="adj2" fmla="val 53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badi MT Condensed Extra Bold"/>
              </a:rPr>
              <a:t>Quote Sandwich #1</a:t>
            </a:r>
            <a:endParaRPr b="0" lang="en-US" sz="1800" spc="-1" strike="noStrike">
              <a:solidFill>
                <a:srgbClr val="000000"/>
              </a:solidFill>
              <a:latin typeface="Arial"/>
            </a:endParaRPr>
          </a:p>
        </p:txBody>
      </p:sp>
      <p:sp>
        <p:nvSpPr>
          <p:cNvPr id="49" name=""/>
          <p:cNvSpPr/>
          <p:nvPr/>
        </p:nvSpPr>
        <p:spPr>
          <a:xfrm>
            <a:off x="6095880" y="3124080"/>
            <a:ext cx="1828800" cy="762120"/>
          </a:xfrm>
          <a:prstGeom prst="wedgeEllipseCallout">
            <a:avLst>
              <a:gd name="adj1" fmla="val -135763"/>
              <a:gd name="adj2" fmla="val 38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badi MT Condensed Extra Bold"/>
              </a:rPr>
              <a:t>Quote Sandwich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152280"/>
            <a:ext cx="8458200" cy="691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badi MT Condensed Extra Bold"/>
              </a:rPr>
              <a:t>How does Shakespeare characterize Macbeth in Act 1 of </a:t>
            </a:r>
            <a:r>
              <a:rPr b="1" sz="2400" spc="-1" strike="noStrike" u="sng">
                <a:solidFill>
                  <a:srgbClr val="000000"/>
                </a:solidFill>
                <a:uFillTx/>
                <a:latin typeface="Abadi MT Condensed Extra Bold"/>
              </a:rPr>
              <a:t>Macbeth</a:t>
            </a:r>
            <a:r>
              <a:rPr b="1" sz="2400" spc="-1" strike="noStrike">
                <a:solidFill>
                  <a:srgbClr val="000000"/>
                </a:solidFill>
                <a:latin typeface="Abadi MT Condensed Extra Bold"/>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no Pro"/>
              </a:rPr>
              <a:t>     </a:t>
            </a:r>
            <a:r>
              <a:rPr b="0" sz="1800" spc="-1" strike="noStrike">
                <a:solidFill>
                  <a:srgbClr val="000000"/>
                </a:solidFill>
                <a:latin typeface="Arno Pro"/>
              </a:rPr>
              <a:t>In the first act of Shakespeare’s </a:t>
            </a:r>
            <a:r>
              <a:rPr b="0" sz="1800" spc="-1" strike="noStrike" u="sng">
                <a:solidFill>
                  <a:srgbClr val="000000"/>
                </a:solidFill>
                <a:uFillTx/>
                <a:latin typeface="Arno Pro"/>
              </a:rPr>
              <a:t>Macbeth</a:t>
            </a:r>
            <a:r>
              <a:rPr b="0" sz="1800" spc="-1" strike="noStrike">
                <a:solidFill>
                  <a:srgbClr val="000000"/>
                </a:solidFill>
                <a:latin typeface="Arno Pro"/>
              </a:rPr>
              <a:t>, Macbeth is seen as a character who is easily persuaded to make a choice he knows as wro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Arno Pro"/>
              </a:rPr>
              <a:t>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Arno Pro"/>
              </a:rPr>
              <a:t>Topic sentence establishes name of text and author, responds directly to the prompt and sets up a focus for the rest of the ideas.  It shouldn’t just state plo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badi MT Condensed Extra Bold"/>
              </a:rPr>
              <a:t>WHAT NOT TO 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no Pro"/>
              </a:rPr>
              <a:t>Compare to a topic sentence that just states plo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no Pro"/>
              </a:rPr>
              <a:t>     </a:t>
            </a:r>
            <a:r>
              <a:rPr b="0" sz="1800" spc="-1" strike="noStrike">
                <a:solidFill>
                  <a:srgbClr val="000000"/>
                </a:solidFill>
                <a:latin typeface="Arno Pro"/>
              </a:rPr>
              <a:t>In the first act of Shakespeare’s </a:t>
            </a:r>
            <a:r>
              <a:rPr b="0" sz="1800" spc="-1" strike="noStrike" u="sng">
                <a:solidFill>
                  <a:srgbClr val="000000"/>
                </a:solidFill>
                <a:uFillTx/>
                <a:latin typeface="Arno Pro"/>
              </a:rPr>
              <a:t>Macbeth</a:t>
            </a:r>
            <a:r>
              <a:rPr b="0" sz="1800" spc="-1" strike="noStrike">
                <a:solidFill>
                  <a:srgbClr val="000000"/>
                </a:solidFill>
                <a:latin typeface="Arno Pro"/>
              </a:rPr>
              <a:t>, Macbeth is considering what to do when the witches tell him he might one day become k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152280"/>
            <a:ext cx="8763120" cy="865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badi MT Condensed Extra Bold"/>
              </a:rPr>
              <a:t>How does Shakespeare characterize Macbeth in Act 1 of </a:t>
            </a:r>
            <a:r>
              <a:rPr b="1" sz="2400" spc="-1" strike="noStrike" u="sng">
                <a:solidFill>
                  <a:srgbClr val="000000"/>
                </a:solidFill>
                <a:uFillTx/>
                <a:latin typeface="Abadi MT Condensed Extra Bold"/>
              </a:rPr>
              <a:t>Macbeth</a:t>
            </a:r>
            <a:r>
              <a:rPr b="1" sz="2400" spc="-1" strike="noStrike">
                <a:solidFill>
                  <a:srgbClr val="000000"/>
                </a:solidFill>
                <a:latin typeface="Abadi MT Condensed Extra Bold"/>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no Pro"/>
              </a:rPr>
              <a:t>     </a:t>
            </a:r>
            <a:r>
              <a:rPr b="0" sz="1800" spc="-1" strike="noStrike">
                <a:solidFill>
                  <a:srgbClr val="808080"/>
                </a:solidFill>
                <a:latin typeface="Arno Pro"/>
              </a:rPr>
              <a:t>In the first act of Shakespeare’s </a:t>
            </a:r>
            <a:r>
              <a:rPr b="0" sz="1800" spc="-1" strike="noStrike" u="sng">
                <a:solidFill>
                  <a:srgbClr val="808080"/>
                </a:solidFill>
                <a:uFillTx/>
                <a:latin typeface="Arno Pro"/>
              </a:rPr>
              <a:t>Macbeth</a:t>
            </a:r>
            <a:r>
              <a:rPr b="0" sz="1800" spc="-1" strike="noStrike">
                <a:solidFill>
                  <a:srgbClr val="808080"/>
                </a:solidFill>
                <a:latin typeface="Arno Pro"/>
              </a:rPr>
              <a:t>, Macbeth is seen as a character who is easily persuaded to make a choice he knows as wrong.</a:t>
            </a:r>
            <a:r>
              <a:rPr b="0" sz="1800" spc="-1" strike="noStrike">
                <a:solidFill>
                  <a:srgbClr val="000000"/>
                </a:solidFill>
                <a:latin typeface="Arno Pro"/>
              </a:rPr>
              <a:t>  At first he is called “brave” Macbeth and it is clear that King Duncan is willing to reward him for his efforts during the rebellion.  But as soon as the witches greet him as he “that shalt be King hereafter” (I.iii.50), he immediately starts to think dark thoughts: “Present fears / Are less than horrible imaginings” (I.iii.137-138). The fact that he’s already thinking murder shows how malleable he is even though he knows it’s wrong.  He knows this is wrong, because later he asks the stars to hide his dark though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________</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Arno Pro"/>
              </a:rPr>
              <a:t>Quote Sandwich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Arno Pro"/>
              </a:rPr>
              <a:t>Set up the context of any quote before you give the quote so that you orient the reader to the events and prepare them for why this quote will be import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Arno Pro"/>
              </a:rPr>
              <a:t>Carefully use correct parenthetical citation format: end the quote, end quote mark, parenthetical citation, end parenthetical citation, peri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Arno Pro"/>
              </a:rPr>
              <a:t>Use pieces of quotes incorporated into your own original sentences as well as pull-out quotes to make the ideas more your own.  This provides a chance to get support from the text without having to take long pauses from your own id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152280"/>
            <a:ext cx="8763120" cy="728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badi MT Condensed Extra Bold"/>
              </a:rPr>
              <a:t>How does Shakespeare characterize Macbeth in Act 1 of </a:t>
            </a:r>
            <a:r>
              <a:rPr b="1" sz="2400" spc="-1" strike="noStrike" u="sng">
                <a:solidFill>
                  <a:srgbClr val="000000"/>
                </a:solidFill>
                <a:uFillTx/>
                <a:latin typeface="Abadi MT Condensed Extra Bold"/>
              </a:rPr>
              <a:t>Macbeth</a:t>
            </a:r>
            <a:r>
              <a:rPr b="1" sz="2400" spc="-1" strike="noStrike">
                <a:solidFill>
                  <a:srgbClr val="000000"/>
                </a:solidFill>
                <a:latin typeface="Abadi MT Condensed Extra Bold"/>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808080"/>
                </a:solidFill>
                <a:latin typeface="Arno Pro"/>
              </a:rPr>
              <a:t>     </a:t>
            </a:r>
            <a:r>
              <a:rPr b="0" sz="1800" spc="-1" strike="noStrike">
                <a:solidFill>
                  <a:srgbClr val="808080"/>
                </a:solidFill>
                <a:latin typeface="Arno Pro"/>
              </a:rPr>
              <a:t>In the first act of Shakespeare’s </a:t>
            </a:r>
            <a:r>
              <a:rPr b="0" sz="1800" spc="-1" strike="noStrike" u="sng">
                <a:solidFill>
                  <a:srgbClr val="808080"/>
                </a:solidFill>
                <a:uFillTx/>
                <a:latin typeface="Arno Pro"/>
              </a:rPr>
              <a:t>Macbeth</a:t>
            </a:r>
            <a:r>
              <a:rPr b="0" sz="1800" spc="-1" strike="noStrike">
                <a:solidFill>
                  <a:srgbClr val="808080"/>
                </a:solidFill>
                <a:latin typeface="Arno Pro"/>
              </a:rPr>
              <a:t>, Macbeth is seen as a character who is easily persuaded to make a choice he knows as wrong.  At first he is called “brave” Macbeth and it is clear that King Duncan is willing to reward him for his efforts during the rebellion.  But as soon as the witches greet him as a future king, he immediately starts to think dark thoughts: “Present fears / Are less than horrible imaginings” (I.iii.137-138). The fact that he’s already thinking murder shows how malleable he is even though he knows it’s wrong.  He knows this is wrong, because later he asks the stars to hide his dark thoughts.</a:t>
            </a:r>
            <a:r>
              <a:rPr b="0" sz="1800" spc="-1" strike="noStrike">
                <a:solidFill>
                  <a:srgbClr val="000000"/>
                </a:solidFill>
                <a:latin typeface="Arno Pro"/>
              </a:rPr>
              <a:t>  He changes his mind by the time he meets up with his wife, but she shames him so thoroughly that he eventually caves to her:  “I am settled, and bend up / Each corporal agent to this terrible feat” (I.vii.79-80). If he thought it was okay to murder Duncan that would be one thing, but Macbeth has gotten talked into doing something he knows is wro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Arno Pro"/>
              </a:rPr>
              <a:t>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Arno Pro"/>
              </a:rPr>
              <a:t>Quote Sandwich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 y="152280"/>
            <a:ext cx="8763120" cy="883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badi MT Condensed Extra Bold"/>
              </a:rPr>
              <a:t>How does Shakespeare characterize Macbeth in Act 1 of </a:t>
            </a:r>
            <a:r>
              <a:rPr b="1" sz="2400" spc="-1" strike="noStrike" u="sng">
                <a:solidFill>
                  <a:srgbClr val="000000"/>
                </a:solidFill>
                <a:uFillTx/>
                <a:latin typeface="Abadi MT Condensed Extra Bold"/>
              </a:rPr>
              <a:t>Macbeth</a:t>
            </a:r>
            <a:r>
              <a:rPr b="1" sz="2400" spc="-1" strike="noStrike">
                <a:solidFill>
                  <a:srgbClr val="000000"/>
                </a:solidFill>
                <a:latin typeface="Abadi MT Condensed Extra Bold"/>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808080"/>
                </a:solidFill>
                <a:latin typeface="Arno Pro"/>
              </a:rPr>
              <a:t>     </a:t>
            </a:r>
            <a:r>
              <a:rPr b="0" sz="1800" spc="-1" strike="noStrike">
                <a:solidFill>
                  <a:srgbClr val="808080"/>
                </a:solidFill>
                <a:latin typeface="Arno Pro"/>
              </a:rPr>
              <a:t>In the first act of Shakespeare’s </a:t>
            </a:r>
            <a:r>
              <a:rPr b="0" sz="1800" spc="-1" strike="noStrike" u="sng">
                <a:solidFill>
                  <a:srgbClr val="808080"/>
                </a:solidFill>
                <a:uFillTx/>
                <a:latin typeface="Arno Pro"/>
              </a:rPr>
              <a:t>Macbeth</a:t>
            </a:r>
            <a:r>
              <a:rPr b="0" sz="1800" spc="-1" strike="noStrike">
                <a:solidFill>
                  <a:srgbClr val="808080"/>
                </a:solidFill>
                <a:latin typeface="Arno Pro"/>
              </a:rPr>
              <a:t>, Macbeth is seen as a character who is easily persuaded to make a choice he knows as wrong.  At first he is called “brave” Macbeth and it is clear that King Duncan is willing to reward him for his efforts during the rebellion.  But as soon as the witches greet him as a future king, he immediately starts to think dark thoughts: “Present fears / Are less than horrible imaginings” (I.iii.137-138). The fact that he’s already thinking murder shows how malleable he is even though he knows it’s wrong.  He knows this is wrong, because later he asks the stars to hide his dark thoughts.  He changes his mind by the time he meets up with his wife, but she shames him so thoroughly that he eventually caves to her:  “I am settled, and bend up / Each corporal agent to this terrible feat” (I.vii.79-80).  If he thought it was okay to murder Duncan that would be one thing, but Macbeth has gotten talked into doing something he knows is wrong.</a:t>
            </a:r>
            <a:r>
              <a:rPr b="0" sz="1800" spc="-1" strike="noStrike">
                <a:solidFill>
                  <a:srgbClr val="000000"/>
                </a:solidFill>
                <a:latin typeface="Arno Pro"/>
              </a:rPr>
              <a:t>  Because he is so easily persuaded into murder, he may have to deal with a guilty conscience later, and he may be easily convinced to do other bad things too.</a:t>
            </a:r>
            <a:r>
              <a:rPr b="0" i="1" sz="1600" spc="-1" strike="noStrike">
                <a:solidFill>
                  <a:srgbClr val="000000"/>
                </a:solidFill>
                <a:latin typeface="Arno Pro"/>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800" spc="-1" strike="noStrike">
                <a:solidFill>
                  <a:srgbClr val="000000"/>
                </a:solidFill>
                <a:latin typeface="Arno Pro"/>
              </a:rPr>
              <a:t>Note the final sentence shows the importance of the point I’ve made about Macbeth in the paragraph: why this idea is significance to the sto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80880" y="304920"/>
            <a:ext cx="8458200" cy="801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badi MT Condensed Extra Bold"/>
              </a:rPr>
              <a:t>How does Shakespeare characterize Macbeth in Act 1 of </a:t>
            </a:r>
            <a:r>
              <a:rPr b="1" sz="2400" spc="-1" strike="noStrike" u="sng">
                <a:solidFill>
                  <a:srgbClr val="000000"/>
                </a:solidFill>
                <a:uFillTx/>
                <a:latin typeface="Abadi MT Condensed Extra Bold"/>
              </a:rPr>
              <a:t>Macbeth</a:t>
            </a:r>
            <a:r>
              <a:rPr b="1" sz="2400" spc="-1" strike="noStrike">
                <a:solidFill>
                  <a:srgbClr val="000000"/>
                </a:solidFill>
                <a:latin typeface="Abadi MT Condensed Extra Bold"/>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no Pro"/>
              </a:rPr>
              <a:t>     </a:t>
            </a:r>
            <a:r>
              <a:rPr b="0" sz="1800" spc="-1" strike="noStrike">
                <a:solidFill>
                  <a:srgbClr val="000000"/>
                </a:solidFill>
                <a:latin typeface="Arno Pro"/>
              </a:rPr>
              <a:t>In the first act of Shakespeare’s </a:t>
            </a:r>
            <a:r>
              <a:rPr b="0" sz="1800" spc="-1" strike="noStrike" u="sng">
                <a:solidFill>
                  <a:srgbClr val="000000"/>
                </a:solidFill>
                <a:uFillTx/>
                <a:latin typeface="Arno Pro"/>
              </a:rPr>
              <a:t>Macbeth</a:t>
            </a:r>
            <a:r>
              <a:rPr b="0" sz="1800" spc="-1" strike="noStrike">
                <a:solidFill>
                  <a:srgbClr val="000000"/>
                </a:solidFill>
                <a:latin typeface="Arno Pro"/>
              </a:rPr>
              <a:t>, Macbeth is seen as a character who is easily persuaded to make a choice he knows as wrong.  At first he is called “brave” Macbeth and it is clear that King Duncan is willing to reward him for his efforts during the rebellion.  But as soon as the witches greet him as a future king, he immediately starts to think dark thoughts: “Present fears / Are less than horrible imaginings” (I.iii.137-138). The fact that he’s already thinking murder shows how malleable he is even though he knows it’s wrong.  He knows this is wrong, because later he asks the stars to hide his dark thoughts.  He changes his mind by the time he meets up with his wife, but she shames him so thoroughly that he eventually caves to her:  “I am settled, and bend up / Each corporal agent to this terrible feat” (I.vii.79-80).  If he thought it was okay to murder Duncan that would be one thing, but Macbeth has gotten talked into doing something he knows is wrong.  Because he is so easily persuaded into murder, he may have to deal with a guilty conscience later, and he may be easily convinced to do other bad things t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badi MT Condensed Extra Bold"/>
              </a:rPr>
              <a:t>How does Shakespeare characterize Lady Macbeth in Act 1 of </a:t>
            </a:r>
            <a:r>
              <a:rPr b="1" sz="2400" spc="-1" strike="noStrike" u="sng">
                <a:solidFill>
                  <a:srgbClr val="000000"/>
                </a:solidFill>
                <a:uFillTx/>
                <a:latin typeface="Abadi MT Condensed Extra Bold"/>
              </a:rPr>
              <a:t>Macbeth</a:t>
            </a:r>
            <a:r>
              <a:rPr b="1" sz="2400" spc="-1" strike="noStrike">
                <a:solidFill>
                  <a:srgbClr val="000000"/>
                </a:solidFill>
                <a:latin typeface="Abadi MT Condensed Extra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152280"/>
            <a:ext cx="876312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Long quotes (3-5 lines within the paragraph text) should be separated from the text with blank lines on top and bottom and five-space indents to left and right margins and single-spaced.  Quotations are not needed unless you are quoting dialogue (as in this case) - the format indicates it is a quote on its ow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Note the colon to introduce a quote in this form, the lack of indent in the line that comes after, and the follow up on the significance of the quote at the en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152280"/>
            <a:ext cx="8763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600" spc="-1" strike="noStrike">
                <a:solidFill>
                  <a:srgbClr val="000000"/>
                </a:solidFill>
                <a:latin typeface="Arno Pro"/>
              </a:rPr>
              <a:t>Treat the title the same way here as in the essay.  Make sure the way you reference the source in the parenthetical citation agrees with the first word(s) of the Works Cited form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3:21:09Z</dcterms:created>
  <dc:creator>admin CHRHS</dc:creator>
  <dc:description/>
  <dc:language>en-US</dc:language>
  <cp:lastModifiedBy>admin CHRHS</cp:lastModifiedBy>
  <dcterms:modified xsi:type="dcterms:W3CDTF">2010-05-21T13:31:26Z</dcterms:modified>
  <cp:revision>16</cp:revision>
  <dc:subject/>
  <dc:title>PowerPoint Presentation</dc:title>
</cp:coreProperties>
</file>